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2EF5-7060-4D08-AD90-E5A1CAC51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380-33B1-4129-BEA8-A2239E675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00AF-9E38-42A5-A7FF-AF9C52E2D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059-3920-4CCA-97D4-C7E55F8BC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399-D5A7-4796-8255-E83553B39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E87-2FCC-4C02-ACB8-4EA1469ED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0510-F51D-479E-943A-B0FC7791D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CC2-2761-4774-A08B-BCBEF9FCF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D70-839D-4C50-ADA1-5DC8E53BA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6B3-3DA7-4CE1-9311-08BAE8D1D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4957-D495-4E8B-B2CC-ED5470351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768B-7789-4994-996B-F73952B81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294-D8AE-4532-B11F-C6EDD52A6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1F7-EF6A-4817-A024-E39665E83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A58-8A55-4866-897A-A22535B7F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2936-FADD-4837-9B44-D427CEFFB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5BE8-080B-4ED3-95F5-3D64EBA5B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CE81-A2DF-4B7C-B941-815CEB833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E1D7-8EDF-49B6-B7B7-8C7F3B163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DCBD-96B0-4A5A-96C1-2E5518966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672-28A1-4C7D-B275-893DEC41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99B-F214-48C0-AA0A-50A4848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972-9E4B-416A-A62D-56217CF9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203-5A8E-42E9-93DF-198577BA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AE4-9115-48F6-B900-0B270C1D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85B-D63D-4E00-8BF4-EF043611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2C8-EBE8-42C6-B18F-27F3E3F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151-27A8-4849-8D76-AC25ED7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55A-B928-447A-BD80-219D371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D48-0C40-494E-8469-2464FDD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236-F9C7-46C6-8858-E8F23897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B2B-ACB2-4CDF-ADA4-D29F6EE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1BC4-FEC4-4D57-8761-76C551BE5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National%20Curriculum.wm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Ecological%20Footprint.doc" TargetMode="External"/><Relationship Id="rId2" Type="http://schemas.openxmlformats.org/officeDocument/2006/relationships/hyperlink" Target="file:///Stage%204%20Math%2008.doc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16200000">
            <a:off x="-2552760" y="2857320"/>
            <a:ext cx="6400800" cy="1143000"/>
          </a:xfrm>
          <a:prstGeom prst="rect">
            <a:avLst/>
          </a:prstGeom>
          <a:solidFill>
            <a:srgbClr val="b3a2c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Calibri"/>
              </a:rPr>
              <a:t>National Curriculum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05320" y="5181120"/>
            <a:ext cx="5333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Challenging Possibiliti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stralian schooling promotes equity and excellence: promote personalised learning that aims to fulfill the diverse capabilities of each young Australi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young Australians be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 and creative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and informed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920" y="14479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solid foundation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in skills and knowledge on which further learning and adult life can be built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eep knowledge and skill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enabling advanced learning, ability to create new ideas &amp; translate them into practical applicatio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General capabilitie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 that underpin flexible thinking, a </a:t>
            </a: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capacity to work with others</a:t>
            </a:r>
            <a:r>
              <a:rPr b="0" lang="en-AU" sz="2900" spc="-1" strike="noStrike">
                <a:solidFill>
                  <a:srgbClr val="000000"/>
                </a:solidFill>
                <a:latin typeface="Calibri"/>
              </a:rPr>
              <a:t>, an ability to move across subject discipli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2f2f2"/>
                </a:solidFill>
                <a:latin typeface="Calibri"/>
              </a:rPr>
              <a:t>National Curriculum Expectation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190760" cy="944640"/>
          </a:xfrm>
          <a:prstGeom prst="rect">
            <a:avLst/>
          </a:pr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ges of Schoo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5 to 8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8 to 12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12 to 15 years of 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age 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typically involves students from 15 to 18 years of 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Picture3.jpg"/>
          <p:cNvPicPr/>
          <p:nvPr/>
        </p:nvPicPr>
        <p:blipFill>
          <a:blip r:embed="rId1"/>
          <a:stretch/>
        </p:blipFill>
        <p:spPr>
          <a:xfrm>
            <a:off x="4767120" y="0"/>
            <a:ext cx="437688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icture1.jpg"/>
          <p:cNvPicPr/>
          <p:nvPr/>
        </p:nvPicPr>
        <p:blipFill>
          <a:blip r:embed="rId2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Title 1"/>
          <p:cNvGrpSpPr/>
          <p:nvPr/>
        </p:nvGrpSpPr>
        <p:grpSpPr>
          <a:xfrm>
            <a:off x="291960" y="262080"/>
            <a:ext cx="4292640" cy="817560"/>
            <a:chOff x="291960" y="262080"/>
            <a:chExt cx="4292640" cy="817560"/>
          </a:xfrm>
        </p:grpSpPr>
        <p:pic>
          <p:nvPicPr>
            <p:cNvPr id="106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2926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04920" y="274680"/>
              <a:ext cx="4267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alibri"/>
                </a:rPr>
                <a:t>National Curriculum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3045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arly Year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teracy and numer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ocial, emotional and physical develo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iddle &amp; Later Yea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Increasing focus on disciplines within science, social science and human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pecialised areas of learning in later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Problem solving,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synthesising, teamwork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and being able to move</a:t>
            </a: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   across discip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Karen Yager\My Documents\2009 authentic assessment\middle years\real world.jpg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868320"/>
          </a:xfrm>
          <a:prstGeom prst="rect">
            <a:avLst/>
          </a:prstGeom>
          <a:gradFill rotWithShape="0">
            <a:gsLst>
              <a:gs pos="0">
                <a:srgbClr val="717e8e"/>
              </a:gs>
              <a:gs pos="100000">
                <a:srgbClr val="c3d9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hematics Prim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olve and understand multiplication tables and understand fractions, placement of decimal points and identify geometric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cience Upper Primar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understand scientific concepts and principles, such as gravity and our solar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www.softlist.net/images/large-images/math_games_multiplication_education_mathematics-13866.jpeg"/>
          <p:cNvPicPr/>
          <p:nvPr/>
        </p:nvPicPr>
        <p:blipFill>
          <a:blip r:embed="rId1"/>
          <a:stretch/>
        </p:blipFill>
        <p:spPr>
          <a:xfrm>
            <a:off x="4673520" y="0"/>
            <a:ext cx="4470480" cy="35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www.ed.gov/offices/OERI/ORAD/KAD/expert_panel/2mathgr.gif"/>
          <p:cNvPicPr/>
          <p:nvPr/>
        </p:nvPicPr>
        <p:blipFill>
          <a:blip r:embed="rId2"/>
          <a:stretch/>
        </p:blipFill>
        <p:spPr>
          <a:xfrm>
            <a:off x="4714920" y="3505320"/>
            <a:ext cx="442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190760" cy="868320"/>
          </a:xfrm>
          <a:prstGeom prst="rect">
            <a:avLst/>
          </a:prstGeom>
          <a:gradFill rotWithShape="0">
            <a:gsLst>
              <a:gs pos="0">
                <a:srgbClr val="7f868e"/>
              </a:gs>
              <a:gs pos="100000">
                <a:srgbClr val="dae6f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5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Primary and 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well-formed knowledge of our history and culture, and our cultural d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Secondary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now both factual history, but also have an ability to apply critical analysis to solve problems and have a systemic understanding of Australian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oph.gov.au/image/1/370/0/1/farm4.static.flickr.com/3288/2654992018_6d9d4d8d9d_o.jpg"/>
          <p:cNvPicPr/>
          <p:nvPr/>
        </p:nvPicPr>
        <p:blipFill>
          <a:blip r:embed="rId1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148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a G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lish Primary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basic grammar including the use of a full stop in a sentence and meet consistent spelling competency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glish Secondary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 a consistent recommended reading list of Australian literature and the clas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i38.tinypic.com/1zgxi54.jpg"/>
          <p:cNvPicPr/>
          <p:nvPr/>
        </p:nvPicPr>
        <p:blipFill>
          <a:blip r:embed="rId2"/>
          <a:stretch/>
        </p:blipFill>
        <p:spPr>
          <a:xfrm>
            <a:off x="4626000" y="0"/>
            <a:ext cx="45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4267080" cy="79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1430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motivation and engagement in these years is cri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ing on student engagement and converting this into learning can have a significant impact on student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transitions between primary and secondary schools are an important aspect of ensuring student eng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610x.jpg"/>
          <p:cNvPicPr/>
          <p:nvPr/>
        </p:nvPicPr>
        <p:blipFill>
          <a:blip r:embed="rId2"/>
          <a:stretch/>
        </p:blipFill>
        <p:spPr>
          <a:xfrm>
            <a:off x="4737240" y="0"/>
            <a:ext cx="4406760" cy="320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ts.jpg"/>
          <p:cNvPicPr/>
          <p:nvPr/>
        </p:nvPicPr>
        <p:blipFill>
          <a:blip r:embed="rId3"/>
          <a:stretch/>
        </p:blipFill>
        <p:spPr>
          <a:xfrm>
            <a:off x="4761000" y="3200400"/>
            <a:ext cx="4383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267080" cy="715680"/>
          </a:xfrm>
          <a:prstGeom prst="rect">
            <a:avLst/>
          </a:prstGeom>
          <a:gradFill rotWithShape="0">
            <a:gsLst>
              <a:gs pos="0">
                <a:srgbClr val="967b65"/>
              </a:gs>
              <a:gs pos="100000">
                <a:srgbClr val="ffd4b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neration 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orn into a digital world and now hitting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st information-intensive generation of al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ubble-wrap men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arents stressing work ethic, etiquette, resilience, fortitude and taking responsibility for one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generation of highly educated, technologically savvy, innovative thin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greater social conscience and notion of fair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alue speed over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oers and the fix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digital kids.bmp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32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rtoon102.jpg"/>
          <p:cNvPicPr/>
          <p:nvPr/>
        </p:nvPicPr>
        <p:blipFill>
          <a:blip r:embed="rId2"/>
          <a:stretch/>
        </p:blipFill>
        <p:spPr>
          <a:xfrm>
            <a:off x="4784760" y="3200400"/>
            <a:ext cx="435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itle 1"/>
          <p:cNvGrpSpPr/>
          <p:nvPr/>
        </p:nvGrpSpPr>
        <p:grpSpPr>
          <a:xfrm>
            <a:off x="291960" y="262080"/>
            <a:ext cx="4219560" cy="896760"/>
            <a:chOff x="291960" y="262080"/>
            <a:chExt cx="4219560" cy="896760"/>
          </a:xfrm>
        </p:grpSpPr>
        <p:pic>
          <p:nvPicPr>
            <p:cNvPr id="129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2195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4920" y="274680"/>
              <a:ext cx="41907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ross-Disciplinar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304560" y="129492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Recognition that new ways of thinking are borne out of deep knowledge &amp; its application across disciplin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tudents should participate in learning that applies specific discipline-based knowledge and skills across disciplines to encourage thinking and working in new way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Cross-Disciplinary: ICT &amp; Design, Civics &amp; Citizenship, 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ygeneration.jpg"/>
          <p:cNvPicPr/>
          <p:nvPr/>
        </p:nvPicPr>
        <p:blipFill>
          <a:blip r:embed="rId2"/>
          <a:stretch/>
        </p:blipFill>
        <p:spPr>
          <a:xfrm>
            <a:off x="4683240" y="0"/>
            <a:ext cx="4460760" cy="4038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mum computer.bmp"/>
          <p:cNvPicPr/>
          <p:nvPr/>
        </p:nvPicPr>
        <p:blipFill>
          <a:blip r:embed="rId3"/>
          <a:stretch/>
        </p:blipFill>
        <p:spPr>
          <a:xfrm>
            <a:off x="5000760" y="4038480"/>
            <a:ext cx="4143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94464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Globalisation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6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isation is shaping curriculu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New skills: collaboration, creativity, innovation and technology savv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 environ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formation 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ise of India, China and Korea – Asia liter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240"/>
          <p:cNvGrpSpPr/>
          <p:nvPr/>
        </p:nvGrpSpPr>
        <p:grpSpPr>
          <a:xfrm>
            <a:off x="5029200" y="104760"/>
            <a:ext cx="3961800" cy="6752160"/>
            <a:chOff x="5029200" y="104760"/>
            <a:chExt cx="3961800" cy="6752160"/>
          </a:xfrm>
        </p:grpSpPr>
        <p:pic>
          <p:nvPicPr>
            <p:cNvPr id="53" name="Picture 28" descr="employer"/>
            <p:cNvPicPr/>
            <p:nvPr/>
          </p:nvPicPr>
          <p:blipFill>
            <a:blip r:embed="rId1"/>
            <a:stretch/>
          </p:blipFill>
          <p:spPr>
            <a:xfrm>
              <a:off x="5571000" y="104760"/>
              <a:ext cx="3404160" cy="231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Group 221"/>
            <p:cNvGrpSpPr/>
            <p:nvPr/>
          </p:nvGrpSpPr>
          <p:grpSpPr>
            <a:xfrm>
              <a:off x="5029200" y="2396520"/>
              <a:ext cx="3961800" cy="4460400"/>
              <a:chOff x="5029200" y="2396520"/>
              <a:chExt cx="3961800" cy="4460400"/>
            </a:xfrm>
          </p:grpSpPr>
          <p:sp>
            <p:nvSpPr>
              <p:cNvPr id="55" name="Rectangle 66"/>
              <p:cNvSpPr/>
              <p:nvPr/>
            </p:nvSpPr>
            <p:spPr>
              <a:xfrm rot="16200000">
                <a:off x="5083560" y="2947320"/>
                <a:ext cx="4404960" cy="3409920"/>
              </a:xfrm>
              <a:prstGeom prst="rect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70"/>
              <p:cNvSpPr/>
              <p:nvPr/>
            </p:nvSpPr>
            <p:spPr>
              <a:xfrm rot="5400000">
                <a:off x="6981840" y="1698120"/>
                <a:ext cx="567360" cy="33735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 anchorCtr="1" vert="eaVert" rot="10800000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Rectangle 71"/>
              <p:cNvSpPr/>
              <p:nvPr/>
            </p:nvSpPr>
            <p:spPr>
              <a:xfrm rot="16200000">
                <a:off x="6854760" y="1126800"/>
                <a:ext cx="862560" cy="3409920"/>
              </a:xfrm>
              <a:prstGeom prst="rect">
                <a:avLst/>
              </a:prstGeom>
              <a:solidFill>
                <a:srgbClr val="0183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Text Box 72"/>
              <p:cNvSpPr/>
              <p:nvPr/>
            </p:nvSpPr>
            <p:spPr>
              <a:xfrm>
                <a:off x="5621040" y="2627280"/>
                <a:ext cx="334764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Calibri"/>
                  </a:rPr>
                  <a:t>The Economy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217"/>
              <p:cNvSpPr/>
              <p:nvPr/>
            </p:nvSpPr>
            <p:spPr>
              <a:xfrm>
                <a:off x="5657040" y="3738960"/>
                <a:ext cx="3271680" cy="1072440"/>
              </a:xfrm>
              <a:prstGeom prst="rect">
                <a:avLst/>
              </a:prstGeom>
              <a:solidFill>
                <a:srgbClr val="014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Rectangle 73"/>
              <p:cNvSpPr/>
              <p:nvPr/>
            </p:nvSpPr>
            <p:spPr>
              <a:xfrm>
                <a:off x="5771160" y="3907080"/>
                <a:ext cx="3043800" cy="82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emands New 21st Century Skills: Creativity, Innovation, Technology, Collabor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219"/>
              <p:cNvSpPr/>
              <p:nvPr/>
            </p:nvSpPr>
            <p:spPr>
              <a:xfrm>
                <a:off x="5657040" y="5418000"/>
                <a:ext cx="3271680" cy="1071720"/>
              </a:xfrm>
              <a:prstGeom prst="rect">
                <a:avLst/>
              </a:prstGeom>
              <a:solidFill>
                <a:srgbClr val="014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75"/>
              <p:cNvSpPr/>
              <p:nvPr/>
            </p:nvSpPr>
            <p:spPr>
              <a:xfrm>
                <a:off x="5787000" y="5583600"/>
                <a:ext cx="301176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Demands Strong Basic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" name="Group 208"/>
              <p:cNvGrpSpPr/>
              <p:nvPr/>
            </p:nvGrpSpPr>
            <p:grpSpPr>
              <a:xfrm>
                <a:off x="5029200" y="2396520"/>
                <a:ext cx="547200" cy="4460400"/>
                <a:chOff x="5029200" y="2396520"/>
                <a:chExt cx="547200" cy="4460400"/>
              </a:xfrm>
            </p:grpSpPr>
            <p:sp>
              <p:nvSpPr>
                <p:cNvPr id="64" name="AutoShape 206"/>
                <p:cNvSpPr/>
                <p:nvPr/>
              </p:nvSpPr>
              <p:spPr>
                <a:xfrm flipH="1" rot="5400000">
                  <a:off x="3070440" y="4354920"/>
                  <a:ext cx="4460400" cy="54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d55"/>
                    </a:gs>
                    <a:gs pos="100000">
                      <a:srgbClr val="0183b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Line 207"/>
                <p:cNvSpPr/>
                <p:nvPr/>
              </p:nvSpPr>
              <p:spPr>
                <a:xfrm>
                  <a:off x="5576400" y="2404800"/>
                  <a:ext cx="0" cy="4445640"/>
                </a:xfrm>
                <a:prstGeom prst="line">
                  <a:avLst/>
                </a:prstGeom>
                <a:ln w="9360">
                  <a:solidFill>
                    <a:srgbClr val="015f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267080" cy="11430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llenging Possi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ntegrated stag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 &amp; 4 authentic assessment tas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 Middle Years’ ICT project such as Digital Narra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oject-based learn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eer tutor Naplan project” years 5 and 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lobal Citizenship project such as </a:t>
            </a:r>
            <a:r>
              <a:rPr b="0" lang="en-US" sz="2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urfAi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6" descr="whiteboard.jpg"/>
          <p:cNvPicPr/>
          <p:nvPr/>
        </p:nvPicPr>
        <p:blipFill>
          <a:blip r:embed="rId3"/>
          <a:stretch/>
        </p:blipFill>
        <p:spPr>
          <a:xfrm>
            <a:off x="4659480" y="0"/>
            <a:ext cx="448452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R_footprint_1008.jpg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944640"/>
          </a:xfrm>
          <a:prstGeom prst="rect">
            <a:avLst/>
          </a:prstGeom>
          <a:gradFill rotWithShape="0">
            <a:gsLst>
              <a:gs pos="0">
                <a:srgbClr val="b0cffb"/>
              </a:gs>
              <a:gs pos="100000">
                <a:srgbClr val="e6effd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Century Educatio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ducation is crucial for future economic prosper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Young people need the right skills to operate in an information-rich wor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ducation is critical to both understand &amp; address emerging environmental challeng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undo%20y%20computer.jpg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Title 1"/>
          <p:cNvGrpSpPr/>
          <p:nvPr/>
        </p:nvGrpSpPr>
        <p:grpSpPr>
          <a:xfrm>
            <a:off x="291960" y="262080"/>
            <a:ext cx="4372200" cy="969840"/>
            <a:chOff x="291960" y="262080"/>
            <a:chExt cx="4372200" cy="969840"/>
          </a:xfrm>
        </p:grpSpPr>
        <p:pic>
          <p:nvPicPr>
            <p:cNvPr id="70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437220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4920" y="274680"/>
              <a:ext cx="4343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en-US" sz="33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3300" spc="-1" strike="noStrike">
                  <a:solidFill>
                    <a:srgbClr val="000000"/>
                  </a:solidFill>
                  <a:latin typeface="Calibri"/>
                </a:rPr>
                <a:t> Century Education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promote social cohe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be a key driver for delivering equality of opport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ducation to enhance spiritual, moral, cultural, &amp; physic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MotherTheresa.jpg"/>
          <p:cNvPicPr/>
          <p:nvPr/>
        </p:nvPicPr>
        <p:blipFill>
          <a:blip r:embed="rId2"/>
          <a:stretch/>
        </p:blipFill>
        <p:spPr>
          <a:xfrm>
            <a:off x="4782960" y="0"/>
            <a:ext cx="436104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reach_for_the_stars_detail.jpg"/>
          <p:cNvPicPr/>
          <p:nvPr/>
        </p:nvPicPr>
        <p:blipFill>
          <a:blip r:embed="rId3"/>
          <a:stretch/>
        </p:blipFill>
        <p:spPr>
          <a:xfrm>
            <a:off x="4800600" y="320040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Title 1"/>
          <p:cNvGrpSpPr/>
          <p:nvPr/>
        </p:nvGrpSpPr>
        <p:grpSpPr>
          <a:xfrm>
            <a:off x="291960" y="262080"/>
            <a:ext cx="3835440" cy="969840"/>
            <a:chOff x="291960" y="262080"/>
            <a:chExt cx="3835440" cy="969840"/>
          </a:xfrm>
        </p:grpSpPr>
        <p:pic>
          <p:nvPicPr>
            <p:cNvPr id="76" name="Title 1" descr=""/>
            <p:cNvPicPr/>
            <p:nvPr/>
          </p:nvPicPr>
          <p:blipFill>
            <a:blip r:embed="rId1"/>
            <a:stretch/>
          </p:blipFill>
          <p:spPr>
            <a:xfrm>
              <a:off x="291960" y="262080"/>
              <a:ext cx="38354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4920" y="274680"/>
              <a:ext cx="3809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Global Demand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380880" y="13712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5000"/>
              </a:lnSpc>
              <a:spcBef>
                <a:spcPts val="193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kills Required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5000"/>
              </a:lnSpc>
              <a:spcBef>
                <a:spcPts val="7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r the 21</a:t>
            </a:r>
            <a:r>
              <a:rPr b="0" lang="en-US" sz="31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Century Workforce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itical think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nnovation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IC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global.jpg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Kids.jpg"/>
          <p:cNvPicPr/>
          <p:nvPr/>
        </p:nvPicPr>
        <p:blipFill>
          <a:blip r:embed="rId3"/>
          <a:stretch/>
        </p:blipFill>
        <p:spPr>
          <a:xfrm>
            <a:off x="4243320" y="3809880"/>
            <a:ext cx="4900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Title 1"/>
          <p:cNvGrpSpPr/>
          <p:nvPr/>
        </p:nvGrpSpPr>
        <p:grpSpPr>
          <a:xfrm>
            <a:off x="219240" y="262080"/>
            <a:ext cx="4140000" cy="1201680"/>
            <a:chOff x="219240" y="262080"/>
            <a:chExt cx="4140000" cy="1201680"/>
          </a:xfrm>
        </p:grpSpPr>
        <p:pic>
          <p:nvPicPr>
            <p:cNvPr id="82" name="Title 1" descr=""/>
            <p:cNvPicPr/>
            <p:nvPr/>
          </p:nvPicPr>
          <p:blipFill>
            <a:blip r:embed="rId1"/>
            <a:stretch/>
          </p:blipFill>
          <p:spPr>
            <a:xfrm>
              <a:off x="219240" y="262080"/>
              <a:ext cx="41400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28600" y="274680"/>
              <a:ext cx="411480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Calibri"/>
                </a:rPr>
                <a:t>Gardner’s Minds </a:t>
              </a:r>
              <a:br>
                <a:rPr sz="3500"/>
              </a:br>
              <a:r>
                <a:rPr b="1" lang="en-US" sz="3500" spc="-1" strike="noStrike">
                  <a:solidFill>
                    <a:srgbClr val="000000"/>
                  </a:solidFill>
                  <a:latin typeface="Calibri"/>
                </a:rPr>
                <a:t>for the Future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2286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Disciplin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reativ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ynthesis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Ethica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espectfu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earth-and-hands1.jpg"/>
          <p:cNvPicPr/>
          <p:nvPr/>
        </p:nvPicPr>
        <p:blipFill>
          <a:blip r:embed="rId2"/>
          <a:stretch/>
        </p:blipFill>
        <p:spPr>
          <a:xfrm>
            <a:off x="455616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All students in Australian schools should have access to a broad and comprehensive curriculum that details the knowledge, understandings, skills and values to be achieved and provides a basis for the attainment of high standards of achievement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duces content pressure: depth not breadt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eater flexibility for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participation, progression, independent qu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s sections on enterprise, citizenship,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upports personalisation of learning pat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ets international operating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veloping </a:t>
            </a:r>
            <a:r>
              <a:rPr b="1" lang="en-AU" sz="3000" spc="-1" strike="noStrike">
                <a:solidFill>
                  <a:srgbClr val="000000"/>
                </a:solidFill>
                <a:latin typeface="Calibri"/>
              </a:rPr>
              <a:t>nationally consistent curricula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ets core standards and achievement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vides flexibility for jurisdictions and school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stablishes standards as a basis for national tes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Broadens options for 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Ensures achievement reported on same scale national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76e4d"/>
              </a:gs>
              <a:gs pos="100000">
                <a:srgbClr val="ffbf8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Calibri"/>
              </a:rPr>
              <a:t>National Curriculu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kids.png"/>
          <p:cNvPicPr/>
          <p:nvPr/>
        </p:nvPicPr>
        <p:blipFill>
          <a:blip r:embed="rId1"/>
          <a:stretch/>
        </p:blipFill>
        <p:spPr>
          <a:xfrm>
            <a:off x="20520" y="5486400"/>
            <a:ext cx="912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9:28:02Z</dcterms:created>
  <dc:creator>Karen Yager</dc:creator>
  <dc:description/>
  <dc:language>en-US</dc:language>
  <cp:lastModifiedBy>Karen Yager</cp:lastModifiedBy>
  <dcterms:modified xsi:type="dcterms:W3CDTF">2009-04-27T11:39:27Z</dcterms:modified>
  <cp:revision>70</cp:revision>
  <dc:subject/>
  <dc:title>Slide 1</dc:title>
</cp:coreProperties>
</file>